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7C70-FC36-45AA-81C6-ED553104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13FF-B115-4BAB-B096-F4BFE28C845D}" type="slidenum">
              <a:rPr b="0" lang="en-US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EDA-5655-4D0A-8C86-D8FCA6D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E1A-0F18-4661-9339-C883C61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C9F-EDEE-4E57-8626-D4E8A104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1C2-4D48-404B-A870-4AE918A3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DC86-8B10-46FD-A9CC-A6BF81C6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AE71-27CF-413F-94B8-08E48CC1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EDE-BAE1-415D-96DA-95E3192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0AB-0286-44D0-942E-9415B63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03D-CBE2-4912-A532-A05E69D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4A05-A4CE-4EE9-AD42-189EB4A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5400-CB0E-47CE-8E70-4F211F91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267-8C9D-470C-AC29-570CAA91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E886-9F23-4D09-987B-B4B5A30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C42-A6AD-47A4-85A5-CA899506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3B7-CF7E-4DA0-BA9B-247E5239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F543-9A31-4EEC-8FAE-A6F43C59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DFDC-B0AF-4BBF-845C-723CFCD1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00D-7676-4AC5-B0A1-1F5A5724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285-6B36-49BC-89D0-4B73A277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781-AAD4-4E45-A16D-AE1B63F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2FF-265A-4806-9FAB-AF18BA72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6FC-237D-4B75-9D1A-99FAE3C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1D9-069F-4B50-90E0-BD450C5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7E6-207C-4758-895E-0EA0D3D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002E-1E62-4B9C-A9BD-37D04CEDF00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09D9-3639-4C29-8FAB-6301FDC213F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ociolinguistic Aspects of Students’ Question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lish 384/58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uly 26, 201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endshow"/>
          </p:cNvPr>
          <p:cNvSpPr/>
          <p:nvPr/>
        </p:nvSpPr>
        <p:spPr>
          <a:xfrm>
            <a:off x="22860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 - Classroom Fac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63960" y="2438280"/>
            <a:ext cx="390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acher dom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er press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es of acti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lf-confid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sure how to ask good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49240" y="2214720"/>
            <a:ext cx="382284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’s Speech 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3352680"/>
            <a:ext cx="795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functional approach of sentenc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onald Wardhaugh, professor emeritu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versity of Toro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Talk and 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 Introduction to Sociolinguistics (200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cording to Wardhaugh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versations not only make statements, they perform actions in the wor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blish friend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 coope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eate a foundation for future intera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 exampl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ative utterances:  “I had a busy day toda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nected with events or happening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thical propositions:  “Thou shalt not kill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e as guidelines to behavior in some world or an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our purpos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erformative utterance:  “I do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t only saying but doing something if certain real-world conditions are me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format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di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ing a verdict, estimate, grade, or apprais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uilty as charged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You got an A on your test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erc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rcising of powers, rights, or infl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pronounce you husband and wif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gratulations!  You have just graduated from colleg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iss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mising or undertaking, announcing an inten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hereby bequeath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intent to teach the best way I know how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hab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ologizing, congratulating, blessing, cursing, or challeng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pologize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challenge you to learn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os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ers to how one fits an utterance into an argument or expos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, I reply, I assume…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 in favor of my learning outcomes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s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 speech act…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In some way changes the conditions that exist in the world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or example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five years in jail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two hours of detention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Hello.  How are you?”  (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You jerk!”  (not so 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ae Tha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sae" descr=""/>
          <p:cNvPicPr/>
          <p:nvPr/>
        </p:nvPicPr>
        <p:blipFill>
          <a:blip r:embed="rId1"/>
          <a:stretch/>
        </p:blipFill>
        <p:spPr>
          <a:xfrm>
            <a:off x="1363680" y="2214720"/>
            <a:ext cx="2792520" cy="38811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ue/Fal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peech act is neither true nor false in itsel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ever, these claims may be made about its having been do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ymes' components of a speech event (mnemonic version):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ting- scene situation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rticipants- Speaker, Receiver, other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ds- outcomes and goals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t sequences- form and content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ey- manner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strumentalities- Channel, cod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rms- of behavior and interpretation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enre- style, e.g. lecture, ch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 says…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09640" y="243828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nce we begin to look at utterances from the point of view of what they do, it is possible to see every utterance as a speech act of one kind or other, that is, as having some functional value which might be quite independent of the actual words used and their grammatical arrangement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ver and Trudgill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ing a listener to speech is not unlike being a detective.  The listener…has to construct, from an assortment of clues, the affective state of the speaker and a profile of his identit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unicat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Content Placeholder 5" descr="A Communication Model"/>
          <p:cNvPicPr/>
          <p:nvPr/>
        </p:nvPicPr>
        <p:blipFill>
          <a:blip r:embed="rId1"/>
          <a:stretch/>
        </p:blipFill>
        <p:spPr>
          <a:xfrm>
            <a:off x="1219320" y="228600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09640" y="3200040"/>
            <a:ext cx="795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l the world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 stage, and w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e players!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ardha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863960" y="2590920"/>
            <a:ext cx="3903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f good thinkers are good questioners then are good questioners good thinkers?” (King, 1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Picture 2" descr="ridller.jpg image by brigante133"/>
          <p:cNvPicPr/>
          <p:nvPr/>
        </p:nvPicPr>
        <p:blipFill>
          <a:blip r:embed="rId1"/>
          <a:stretch/>
        </p:blipFill>
        <p:spPr>
          <a:xfrm>
            <a:off x="1436760" y="2214720"/>
            <a:ext cx="264636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2590560"/>
            <a:ext cx="79581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Critical Think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"Critical thinking is the intellectually disciplined process of actively and skillfully conceptualizing, applying, analyzing, synthesizing, and/or evaluating information gathered from, or generated by, observation, experience, reflection, reasoning, or communication, as a guide to belief and action“ (Scrive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9640" y="2214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keptical but open-minded              Looks at different points of 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alues fair-mindedness                    Respects evidence &amp; reas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spects clarity &amp; precision             Will change positions when reasoning      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eads them to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Picture 4" descr="http://www.bigcheesebadges.com/images/the_riddler.png"/>
          <p:cNvPicPr/>
          <p:nvPr/>
        </p:nvPicPr>
        <p:blipFill>
          <a:blip r:embed="rId1"/>
          <a:stretch/>
        </p:blipFill>
        <p:spPr>
          <a:xfrm>
            <a:off x="44956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www.bigcheesebadges.com/images/the_riddler.png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bigcheesebadges.com/images/the_riddler.png"/>
          <p:cNvPicPr/>
          <p:nvPr/>
        </p:nvPicPr>
        <p:blipFill>
          <a:blip r:embed="rId3"/>
          <a:stretch/>
        </p:blipFill>
        <p:spPr>
          <a:xfrm>
            <a:off x="44956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www.bigcheesebadges.com/images/the_riddler.png"/>
          <p:cNvPicPr/>
          <p:nvPr/>
        </p:nvPicPr>
        <p:blipFill>
          <a:blip r:embed="rId4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bigcheesebadges.com/images/the_riddler.png"/>
          <p:cNvPicPr/>
          <p:nvPr/>
        </p:nvPicPr>
        <p:blipFill>
          <a:blip r:embed="rId5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bigcheesebadges.com/images/the_riddler.png"/>
          <p:cNvPicPr/>
          <p:nvPr/>
        </p:nvPicPr>
        <p:blipFill>
          <a:blip r:embed="rId6"/>
          <a:stretch/>
        </p:blipFill>
        <p:spPr>
          <a:xfrm>
            <a:off x="838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to Build Your Own Critical Think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09640" y="2666520"/>
            <a:ext cx="795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ing How to Ask Ques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stion Stems (refer to handout)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mantics &amp; Synt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ciprocal Peer Questi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ader’s Ques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ference-Style Lear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Picture 2" descr="http://www.orchardpropertyservices.co.uk/uploads/images/Self%20Build%20House.jpg"/>
          <p:cNvPicPr/>
          <p:nvPr/>
        </p:nvPicPr>
        <p:blipFill>
          <a:blip r:embed="rId1"/>
          <a:stretch/>
        </p:blipFill>
        <p:spPr>
          <a:xfrm>
            <a:off x="5943600" y="3276720"/>
            <a:ext cx="2362320" cy="294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ke Slowinsk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9640" y="2285640"/>
            <a:ext cx="795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operative Lear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igher achievement &amp; greater productiv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ore caring, supportive &amp; committed relationship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ater psychological health, social competence &amp; self-estee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Kaga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Picture 4" descr="http://learningandteaching.dal.ca/taguide/Image51.gif"/>
          <p:cNvPicPr/>
          <p:nvPr/>
        </p:nvPicPr>
        <p:blipFill>
          <a:blip r:embed="rId1"/>
          <a:stretch/>
        </p:blipFill>
        <p:spPr>
          <a:xfrm>
            <a:off x="5105520" y="4419720"/>
            <a:ext cx="2971800" cy="1636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Kathy\AppData\Local\Microsoft\Windows\Temporary Internet Files\Content.IE5\X2G90D1U\MC900312146[1].wmf"/>
          <p:cNvPicPr/>
          <p:nvPr/>
        </p:nvPicPr>
        <p:blipFill>
          <a:blip r:embed="rId2"/>
          <a:stretch/>
        </p:blipFill>
        <p:spPr>
          <a:xfrm>
            <a:off x="1143000" y="335268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Kathy\AppData\Local\Microsoft\Windows\Temporary Internet Files\Content.IE5\X2G90D1U\MC900312146[1].wmf"/>
          <p:cNvPicPr/>
          <p:nvPr/>
        </p:nvPicPr>
        <p:blipFill>
          <a:blip r:embed="rId3"/>
          <a:stretch/>
        </p:blipFill>
        <p:spPr>
          <a:xfrm>
            <a:off x="1143000" y="297180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Users\Kathy\AppData\Local\Microsoft\Windows\Temporary Internet Files\Content.IE5\X2G90D1U\MC900312146[1].wmf"/>
          <p:cNvPicPr/>
          <p:nvPr/>
        </p:nvPicPr>
        <p:blipFill>
          <a:blip r:embed="rId4"/>
          <a:stretch/>
        </p:blipFill>
        <p:spPr>
          <a:xfrm>
            <a:off x="1143000" y="3733920"/>
            <a:ext cx="56520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agan, Spencer.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Cooperative Learnin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 San Clemente: Kagan Publishing, 1994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ing, Allison.  “Designing the Instructional Process to Enhance Critical Thinking Across the Curriculum.”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3-17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riven, Michael and Richard Paul.  “Defining Critical Thinking: A Draft Statement for the National Council for Excellence in Critical Thinking.” (1996) Available  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http://www.criticalthinking.org/University/univlibrary/library.nclk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 &gt; 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nderwood, Marion K. and Rebecca L. Wald. “Conference-Style Learning: A Method for Fostering Critical Thinking with Heart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7-21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 http://www.harding.edu/dlee/bloom.pdf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gt;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k C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ardhaugh, R. (2008)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An Introduction to Sociolinguistic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, 5th Edition, Blackwell Publishing, 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iardiello, Angelo. “Did You Ask a Good Question Today? Alternative Cognitive and Metacognitive Strategies.”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Journal of Adolescent and Adult Literacy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42.3 (Nov. 1998): 210-220.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ood, Thomas, Ricky Slavings, Kathleen Hobson Harel, and Hugh Emerson. “Student Passivity: A Study of Question Asking in K-12 Classrooms.”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Sociology of Education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60 (July 1987): 181-199.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orothy Seehaus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athy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do students ask so many question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1295640" cy="126828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entation P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’s happening in the classroom (Mik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ain Linguistically (Doro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plication and Strategies(Ka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528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at’s happening in the classroom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0199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863960" y="2437920"/>
            <a:ext cx="3903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udents Not Asking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ectronic  Vs. Face-to-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omas Good’s Passivity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cedural Questions Instead of Concept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09640" y="2286000"/>
            <a:ext cx="39020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ua</cp:lastModifiedBy>
  <dcterms:modified xsi:type="dcterms:W3CDTF">2010-07-23T22:20:32Z</dcterms:modified>
  <cp:revision>4</cp:revision>
  <dc:subject/>
  <dc:title>The Sociolinguistic Aspects of Students’ Questioning</dc:title>
</cp:coreProperties>
</file>